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30.png" ContentType="image/png"/>
  <Override PartName="/ppt/media/image48.wmf" ContentType="image/x-wmf"/>
  <Override PartName="/ppt/media/image40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49.wmf" ContentType="image/x-wmf"/>
  <Override PartName="/ppt/media/image29.png" ContentType="image/png"/>
  <Override PartName="/ppt/media/image38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10.png" ContentType="image/png"/>
  <Override PartName="/ppt/media/image5.png" ContentType="image/png"/>
  <Override PartName="/ppt/media/image3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7C7-4FC8-40DD-93B0-7B7EDF6F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863-D28C-4B27-A6A6-D41984B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437-D385-4549-8575-1CA632E0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E59-0C06-41E3-8B2E-B1F6D2AD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E0B-5FFC-4EA7-91D5-6D27E52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061-B0B6-4E16-9C98-38333B32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BD6-3D4A-428A-8E0B-1F6E5C3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50A-E692-4B96-8710-6435F10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A3F-66D5-4ADE-9373-C8476E17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2B0-D1E4-47BA-B8AC-89D11C8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C51-2334-4398-9854-93F9A287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50B-9EC7-48B2-9BDB-DD224F5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6B3-30ED-4879-AD28-293FBBBF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6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pp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Pointers, References and Dynamic Data Structur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assing Arguments to Functions by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mplementing a Linked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Point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51080" y="2004840"/>
            <a:ext cx="644040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5320" y="1295280"/>
            <a:ext cx="55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ly and indirectly referencing a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ferencing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synonym for the name of the object to which the operand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attempt to dereference a variable that is not a pointer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62440" y="2030400"/>
            <a:ext cx="3219120" cy="132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6320" y="1492200"/>
            <a:ext cx="77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a pointer pointing to a variable in mem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695760"/>
            <a:ext cx="1295640" cy="342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synonym for the n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s the same resul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3560760" cy="301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38080" y="5029200"/>
            <a:ext cx="25495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36520" y="2057400"/>
            <a:ext cx="6869160" cy="3610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2480" y="1333440"/>
            <a:ext cx="57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Poi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mem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1963800"/>
            <a:ext cx="6126120" cy="1457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dicate that a function passes parameters by reference, follow the variable type with an ampersan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function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2120" y="1371600"/>
            <a:ext cx="66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that declares a reference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4382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function that declar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ferenc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834160" cy="218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2840" y="1219320"/>
            <a:ext cx="731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n argument by reference using a reference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22892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a variable name to pass-by-reference using a reference arg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743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583380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variables by reference allows the called function to directly modify the original variable in the 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120" y="1187280"/>
            <a:ext cx="66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function that declares a reference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43828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ing the referenc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6920" y="1676520"/>
            <a:ext cx="67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demonstrating the value of input before and af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 value by reference with a reference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37000" y="2116080"/>
            <a:ext cx="6126120" cy="1152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ass a function parameter as a pointer, follow the parameter’s type in the function prototype with an asterisk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" y="1492200"/>
            <a:ext cx="65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that declares a pointer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function that declar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er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60680" y="2286000"/>
            <a:ext cx="6126120" cy="22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5560" y="1623960"/>
            <a:ext cx="68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 variable by reference using a pointer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743200"/>
            <a:ext cx="23623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address operator to pass-by-reference using a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12408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48320"/>
            <a:ext cx="82296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n-pointer argument passed-by-reference using a pointer will automatically be de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bove figur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xplicitly de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initialize poin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the address of a variable in a poi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linked list of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class members using a poi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memory management to create and delete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28960" y="1600200"/>
            <a:ext cx="58341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ereferencing a pointer is an error when it is necessary to do so to obtain the value to which the point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6640" y="121932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function that declares a pointer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9843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eferencing the pointer and incrementing the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36520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2840" y="1700280"/>
            <a:ext cx="71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showing input before and after passing it by re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reference and pointer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are actually pointers pointing to element zero in th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arrayName[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why arrays are always passed by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menu containing options for adding a new item to the list,</a:t>
            </a:r>
            <a:br>
              <a:rPr sz="2000"/>
            </a:b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ing the shopping list and exiting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menu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add a new item to th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name and quantity of th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Create a new ShoppingIte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Add the new ShoppingItem to the linked list of Shopping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display the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item in the list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item’s name and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exit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elete each ShoppingItem and exi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360" y="1187280"/>
            <a:ext cx="58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3000" y="1600200"/>
            <a:ext cx="543240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6000" y="1187280"/>
            <a:ext cx="43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pingItem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28600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47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50532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362320" y="297144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5812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6576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1148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 function that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41972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132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hat represent an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124080" y="49528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63868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057400" y="548604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1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2035080"/>
            <a:ext cx="5067360" cy="1314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lf-referential class contains a pointer to an object of the sam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ting the link in the last node of a linked data structure to null (0) is a (possibly fatal) logic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840" y="1447920"/>
            <a:ext cx="60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elf-referential class objects linked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810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referential class objects linked together to form a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28600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8954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ter to the first self-referential class object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29000" y="2971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2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66760" y="1811160"/>
            <a:ext cx="5010480" cy="1762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linked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is 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ncrease and decrease a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y-linked list has one link per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440" y="1339920"/>
            <a:ext cx="51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08200" y="2743200"/>
            <a:ext cx="6230880" cy="1495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880" y="1866960"/>
            <a:ext cx="67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81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4290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4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46200" y="259092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8520" y="1776240"/>
            <a:ext cx="49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store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89548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32004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6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36840" y="2130480"/>
            <a:ext cx="6249960" cy="1123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defaul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200" y="1492200"/>
            <a:ext cx="37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47320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960" y="2519280"/>
            <a:ext cx="7964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0520" y="1981080"/>
            <a:ext cx="6249960" cy="311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68440" y="1523880"/>
            <a:ext cx="75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item’s name and qua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812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newline from the input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33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386712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he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86000" y="394344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24800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removes one character from the input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9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1760" y="1963800"/>
            <a:ext cx="624996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item to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480" y="1461960"/>
            <a:ext cx="67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23623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666880"/>
            <a:ext cx="1524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0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6249960" cy="1295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9240" y="1843200"/>
            <a:ext cx="843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32194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contents of the shopping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2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74800" y="2035080"/>
            <a:ext cx="6240600" cy="1314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should delete any dynamic memory allocated during run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" y="1523880"/>
            <a:ext cx="73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3623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ing 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6668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46200" y="2057400"/>
            <a:ext cx="6240600" cy="340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9000" y="1409760"/>
            <a:ext cx="355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28600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4382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312408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for the pointer to the first item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1911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s to manipulate the linked lis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62320" y="4191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525780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57400" y="48769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0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1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60840" y="1868400"/>
            <a:ext cx="6230880" cy="1648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a member function, you can explicitly refer to the object of that class on which the function was called with the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hand notation for use with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bject-&gt;my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my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.my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5200" y="1278000"/>
            <a:ext cx="40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21337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iz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as a null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438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3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46000" y="1733400"/>
            <a:ext cx="7450200" cy="451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6160" y="1187280"/>
            <a:ext cx="79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inserting an item at the front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779560" y="1600200"/>
            <a:ext cx="5983560" cy="2185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 of obtaining memory during execu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 can be released so that it can be reu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s an argument the type of object being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to newly cre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2480" y="1157400"/>
            <a:ext cx="69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74320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5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08200" y="1868400"/>
            <a:ext cx="6230880" cy="1648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null (zero) to the link member of a new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itialized pointers often lead to dangerous run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640" y="1295280"/>
            <a:ext cx="75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pointers when adding an item to the front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981080"/>
            <a:ext cx="205740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’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and the List’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2666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6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7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760840" y="2209680"/>
            <a:ext cx="6230880" cy="2610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9960" y="1562040"/>
            <a:ext cx="49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289548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2004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9625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6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7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1880" y="1828800"/>
            <a:ext cx="60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32240" y="2209680"/>
            <a:ext cx="6230880" cy="2162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89240" y="1638360"/>
            <a:ext cx="66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’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me and qua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04812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4290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8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locat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releasing dynamically allocated memory when it is no longer needed can cause the system to run out of memory prematur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the destructor and deallocates the memory allocated b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memory to th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32240" y="2314440"/>
            <a:ext cx="6230880" cy="3095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65560" y="14097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2971800"/>
            <a:ext cx="2210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 that it points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5053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44197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until reaching the end of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41907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8" dur="1" fill="hold"/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9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159000" y="1600200"/>
            <a:ext cx="5908680" cy="2185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that run just before an object’s memory is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800" y="1157400"/>
            <a:ext cx="58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e a temporary copy of the pointer to the nex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1981080"/>
            <a:ext cx="1676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5909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whi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3200" y="289548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354024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o the next item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004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6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7" dur="1" fill="hold"/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7000" y="1562040"/>
            <a:ext cx="67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entering several i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89960" y="171468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04812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5146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0492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for the pointer to the first item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200400" y="456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137160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s to manipulate the linked lis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105520" y="15998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048120"/>
            <a:ext cx="3504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057040" y="2590560"/>
            <a:ext cx="3048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4" dur="1" fill="hold"/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5" dur="1" fill="hold"/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1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124080"/>
            <a:ext cx="3429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iz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a null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286000" y="297144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6" dur="1" fill="hold"/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7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685656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2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6400" y="2157480"/>
            <a:ext cx="49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new item to the shopping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0" y="0"/>
          <a:ext cx="6856560" cy="37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3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838080"/>
            <a:ext cx="2971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point to the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819520" y="1066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7432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appropriate pointers to add the new item to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590560" y="2438280"/>
            <a:ext cx="1904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7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0"/>
          <a:ext cx="6856560" cy="47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4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9144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419360" y="10666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7524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0496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312408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95480" y="327636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4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/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0" y="0"/>
          <a:ext cx="6856560" cy="50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5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7812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343040" y="1057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289548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0060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4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5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3083040"/>
            <a:ext cx="2666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571640" y="323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1148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286000" y="4190760"/>
            <a:ext cx="2362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4" dur="1" fill="hold"/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5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169560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 function that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09320" y="20001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26668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hat represent an item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200400" y="28954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361960" y="37339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2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3" dur="1" fill="hold"/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428640" y="2133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7200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572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286000" y="4724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1" dur="1" fill="hold"/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1960" y="1700280"/>
            <a:ext cx="46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shopping list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1863720"/>
            <a:ext cx="3733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the newline from the input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14240" y="2016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28954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the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9000" y="3047760"/>
            <a:ext cx="1905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3200400"/>
            <a:ext cx="2210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434340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114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1" dur="1" fill="hold"/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2" dur="1" fill="hold"/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0492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contents of the shopping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533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81280" y="59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169560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657600" y="20001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1" dur="1" fill="hold"/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12" dur="1" fill="hold"/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 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5680" y="1700280"/>
            <a:ext cx="44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items to the shopping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 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171144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displayed in reverse order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320" y="1295280"/>
            <a:ext cx="54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updated shopping list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Pointe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ly referenc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ic consta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fined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to repres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only integer that can be directly assigned to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pointers to avoid pointing to unknown or uninitialized area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40:09Z</dcterms:created>
  <dc:creator>Eric Winokur</dc:creator>
  <dc:description/>
  <dc:language>en-US</dc:language>
  <cp:lastModifiedBy>Pearson Education</cp:lastModifiedBy>
  <dcterms:modified xsi:type="dcterms:W3CDTF">2004-10-11T14:13:06Z</dcterms:modified>
  <cp:revision>238</cp:revision>
  <dc:subject/>
  <dc:title>Tutorial 16 – Shopping List Application: Introducing Pointers, References and Dynamic Data Structures</dc:title>
</cp:coreProperties>
</file>